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F8F0-8ED3-4132-B07E-98FE545B5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ikispaces.psu.edu/display/Biology/The+Origins+and+Diversity+of+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hschool.com/science/biology_place/biocoach/transcription/tcproc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okresource.org/tok_classes/biobiobio/biomenu/transcription_translation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biology.kenyon.edu/courses/biol114/Chap05/Chapter05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EC92-2122-463B-805B-E31F39BF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1CB9-2640-4A4D-B4D5-E71E5FFE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B071-8EFC-4C48-9D88-6B8EEB04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9904-1EE8-4779-990F-B232D81F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3516-CEEF-4D9E-992B-1C3A7243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A642-B395-473E-83BF-10C1EF6F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739F-61BE-47B7-BA4E-667C0F95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BEA5-A50F-4F05-BF54-1FA14E2A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E73E-58CB-4F27-A39C-8CF663C5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609D-5D66-4D55-86CA-C1D6A3DD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1E11-F013-486C-9885-7D973D91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866F-79C0-4BE2-AA3C-1BEBDAA0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4DE9-C94E-43EE-9DEA-820913DA5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wU97pTs-xE" TargetMode="External"/><Relationship Id="rId2" Type="http://schemas.openxmlformats.org/officeDocument/2006/relationships/hyperlink" Target="http://www.youtube.com/watch?v=7wU97pTs-xE" TargetMode="External"/><Relationship Id="rId3" Type="http://schemas.openxmlformats.org/officeDocument/2006/relationships/hyperlink" Target="http://www.youtube.com/watch?v=7wU97pTs-xE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Gene to Prote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Extraction explain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ound this short video that might help you to understand the steps in our DNA extraction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youtub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com/watch?v=7wU97pTs-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it remind you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o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ries of vide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ntral Do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s the flow of information from DNA to RNA to prote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DNA to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mRNA to polypept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&amp;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11280" y="1981080"/>
            <a:ext cx="612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ssenger RNA (m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er RNA (t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bosomal RNA (r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467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NA polymerase creates mRNA molecule complementary to template strand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01840" y="3352680"/>
            <a:ext cx="6186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bosome translates mRNA and assembles an amino acid chain using t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43040" y="2895480"/>
            <a:ext cx="6010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57360" y="1981080"/>
            <a:ext cx="602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Code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 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p cod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3:49:34Z</dcterms:created>
  <dc:creator>rubina khan</dc:creator>
  <dc:description/>
  <dc:language>en-US</dc:language>
  <cp:lastModifiedBy>rubina khan</cp:lastModifiedBy>
  <dcterms:modified xsi:type="dcterms:W3CDTF">2013-04-22T04:37:16Z</dcterms:modified>
  <cp:revision>68</cp:revision>
  <dc:subject/>
  <dc:title>Molecular Genetics</dc:title>
</cp:coreProperties>
</file>